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969-9216-4ACB-8AD8-0958C5967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344B-F9CA-42B0-9ADE-264C8BDB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basics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FCD-3EBD-4649-BDD8-46BA77F0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521-BE00-44D5-B27D-33345FD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FF61-0547-4359-8856-BDB09357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0661-3D18-4854-9A15-3DE1ADA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C763-F58D-4B77-8BF8-E96EDD1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FB976-A825-48A3-9B97-2120F3DA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8C56-7110-42E2-9BAA-6BBF8C5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CCCE2-2CAE-404D-87AD-21AF007D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505A7-B870-4E52-ACD2-BBC8C67C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A0B27-8264-4F4B-8568-8295B4F3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00E0E-8475-4327-A5FC-DDB37839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6CF2E-0853-483F-B50D-508C9919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598-889E-4979-BD09-7A3521CD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60BED-9066-452A-B1A4-D4BD889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18B79-019C-4728-BA35-F39C623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D1D8-ED2E-47BA-BA5D-7B41E4C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27D48-BA40-4D65-8C3C-6445940F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6DE40-F19B-417E-8CDB-1EF755C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5AA2-0F55-46A9-8C17-FB719086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0167F-655A-4134-9041-6522794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3D14E-0593-46EC-8F10-CB211A6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9B15-DDFC-4B1C-BCD2-A65F96B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610FD-DAE2-4600-B379-DDA2852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5B7-05DF-4E27-954D-02155A0D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56575-A303-4B1D-A3DA-61B50C88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8969-CC6C-41FC-A244-6B11638A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4A88F-F4F6-4D0F-B238-CE33B508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E1C9-38B7-4266-B94A-FFEA8ADC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54C1F-AF65-43F0-A6AA-B26D3BC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A1266-32AB-468A-A4BF-3DCCF0C2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20D2F-3951-4339-9848-C838028E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4968B-153A-4BB6-8CD8-D3FB9C7F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EABC6-8BA0-4F0F-AB7D-ABBC18D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ADEB-9668-4088-849B-3B814B6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12EA-3741-45DA-B91C-E1B8F48C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F05E7-61E9-498F-9A30-DF0C5A8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CE445-39CF-47E7-90D2-EB93A9C9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32039-31F1-4FE0-8B64-17AD74AA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F8307-D091-4A18-AD01-4151F499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DCE23-95A6-499A-9EA5-55E11639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7AC4C-37F0-4D46-B14C-DF1CF32C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981E1-D63C-46BF-B54E-51040A4B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9C8E3-1780-47DD-80F1-597AEB2B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E2226-C8DD-47C6-B896-038EE6F0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D340F-3E03-44CF-9737-EB1F87E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63A-C456-49CD-820F-A0CA125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882CE-5DFB-4A53-855E-F762645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E06C0-1904-4E83-A351-CE29AE22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5E1C5-6EC9-4800-B3AF-8D8E3AB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08F93-40BF-46A0-9757-C68A7422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CA572-3BF7-4CB4-8B12-C9B0BF63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EB4-2F00-4725-9127-CC9D261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1E1-DB1D-4F84-8E4A-DF4809F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F57-CAE5-4474-A3C2-AC2A193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C209-27C0-462D-8A2E-6D09362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D717-1ECA-4B89-81A2-1AD5C445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5BF-E7BD-4ECF-A25A-2C11BCE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1A39-5485-4EDA-9CEE-2F538FF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DB95-16F9-4F27-9255-9465A03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C6D1-C4EF-4F4E-92F1-DA2515DC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F45-60D8-4844-9AB0-89B2512E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8B87-8D45-433C-B3A0-901981D2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9C44-BBC0-4DFC-A0F3-92AB3793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D566-030F-47D4-AA0C-FB43F1F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6DF9-482A-4FEE-8879-086C067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C30E-452C-4106-BF1D-8E78B76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DECC-D85D-4374-8E05-318E6DA9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AA8-9459-4797-988D-FF37D77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813C1-50BE-45D0-95DE-0E20EAF8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EA98-9894-4C27-8ACA-E049ABF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C9EF-5634-4932-A78E-990AA756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6B50-EA04-4169-8233-D4555664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3AC8-1A6B-43DE-8814-BE706EF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749A-852C-4092-97E6-0E0BE490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1261-EE82-4D3E-9A33-75412B18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A5A0-DFC4-448D-8048-15B33BB2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0414-B741-4CCC-94FF-FC3991E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BD1C-2491-487E-90C6-DF6773D4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7D3-2A44-4A7E-9C7F-FD37387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6EF8E-6801-427E-AA60-10E52D56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0FF6-5096-4CE1-8A65-9C881ED2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8A7EF-2B29-4379-9806-DB9DF09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BFF6-A1CC-4ABE-8383-4CFF444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2305-D544-4F7D-8325-7CB8808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76E6-719D-4B71-9A15-B4BAF30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3354-2070-475E-863A-0C6D39C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9C61-44FA-4671-9955-8AC6C89F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5B7F-DB27-4E2A-8DCD-2BBEB4B6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A25D-E158-40B7-A963-81C2C7DC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843-0480-4857-A4D7-3349443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1868-702B-419B-8E23-F2368833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DEC4E-13E4-4DC1-940C-AFDE13F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9BD3-C3F9-4C53-8EAB-1A35E87A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446A-C0A0-455A-8A0B-4EFCEDD1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9C47-31D7-4CF4-8349-AE2DF62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BBA6-E5BE-4A54-8D44-4635345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592F-0FDB-4DA2-B78B-F4D40D6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FEE0-145B-4939-B55F-B89FC25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FC64-EFCE-42DE-BC18-E95FD65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908B-F239-4086-BF66-6585585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44D-5125-4E5A-9BEF-A1A27326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37D6-8128-4FAA-959B-E8439D40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EE67-1C75-4C12-8FC7-83704429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27E1-20C0-4A2B-964A-B144849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0D9B-53F0-4A84-A67F-2895556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99176-496F-4720-96C7-7BBA08C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9CFB-324E-4A5A-B0AD-53B136D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50124-9095-45C0-9539-5C08B25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7EF1-9C8A-4088-8AA2-021438C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2C27-8646-4947-A8E6-7D16880D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6128-1E4F-4A0A-A098-0337E2D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B6B-B6B3-4A90-9AF8-D6AAF7A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C8323-0F60-41EE-8ECE-DAE5D22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A7E1F-366F-4B10-83E7-EF523469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0B0D3-0714-43D9-B8AE-C7009BCA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AFC56-39FF-4EF5-A91D-8B365690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0F17-FD54-4388-83CF-92AED4B1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4E318-CF35-4C76-AD1A-086FA4D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8D1D-B118-4CA6-8C31-465B674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80B94-428C-4603-8D54-324C6E0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EB8E-5126-43E0-86AC-6ECF1C7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3AF6-F322-497B-833C-EB152AF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1D3-E348-4529-A294-8ED9240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B2A5-B551-4577-92CE-327F0B5F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98ADE-6E62-42BC-93C8-C517648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33E0F-1F42-4371-BEBF-75AD4FE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ECAE9-2FE8-4FA4-B5CC-BE87B01F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8AE4-8D60-40CF-9D4A-5823CB9A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0B97E-5C97-4290-82EB-F1505BFE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B7B2-720C-484A-B9BF-0509B60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FD45-3FE5-4E37-976B-66E535A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A2D3C-2773-4C22-9B76-A3755E8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EBFF-51CE-40F2-8824-0E4909E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F51-8E49-4EA4-A2A3-1EAAB98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1174-8961-46EA-8241-74AA34D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238CB-F9C1-4A7E-8D32-CD8FA7C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1EF0C-FA8C-45F5-97BD-87CEEEAA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A098-AAE6-4D02-B16C-F80D22F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D53A-97A3-4195-8E61-F6751812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F5FF2-18F1-45BA-8338-6190948D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0E129-8052-43D2-BADC-7A7E9D46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FC94-CD28-410D-866A-B57A4A7A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6CBFA-3FCA-48CC-ACE6-A6883B84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6356-EB47-4E81-8209-F092412C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F05-1B82-47C4-97CE-0EB666B3AC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968F-11B7-468E-9C2B-DD1C7B43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BEF5-50B5-41A5-8FBA-1C2277D1DB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24B4-5E1B-453A-8C2E-B8924D17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04C-A767-43AA-95BD-55A1497F08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68D6-F8DB-443A-83FD-770485427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C545-3896-415B-A4F4-9EAE99DB5B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018-A1CA-45F8-8B21-03E71020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B08-A7B4-4FF0-AAD0-ACF64A1D36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DCC1-1F3B-4210-A2CD-A1110BBED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251F-50F9-443F-B623-F7B39EACB4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E9E-3517-4DEC-9780-4F11FF07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E040-07C1-4367-AC14-DA87D1B333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E2A-C150-4104-8518-C054F67AB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F6E3-6DF4-404A-A9E6-F0C723F865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A3F7-C98F-4B6C-850E-095B94757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48EE-4D2A-40B9-AC85-227D942F85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D9F-DA41-44F4-A3CB-D885ACCE1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856-B44E-476A-AB02-7E7BAFC220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4FEC-BF53-4EE5-A7EE-F35BCB1C2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414-8861-4F9C-B08F-A2D670587B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393-14FF-4CDA-80BD-0DBADB7F8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5605-3CF8-477A-B610-3FFFA5D362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F71-458B-4D8D-A8DF-8EA842C6B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2193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1447920" y="1219320"/>
            <a:ext cx="624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1219320" y="2743200"/>
            <a:ext cx="685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a variable in the denomin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Based on its number of terms, the poly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is called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676520" y="3011400"/>
          <a:ext cx="551808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11400"/>
                    <a:ext cx="55180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430800" y="2819520"/>
            <a:ext cx="24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616280" y="2895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066680" y="2971800"/>
          <a:ext cx="7086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76212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990880" y="2743200"/>
          <a:ext cx="280044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743200"/>
                    <a:ext cx="28004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762120" y="12952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936800" y="3048120"/>
          <a:ext cx="5226120" cy="90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048120"/>
                    <a:ext cx="5226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295800" y="2971800"/>
          <a:ext cx="241920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5800" y="2971800"/>
                    <a:ext cx="2419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600200" y="1752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76320" y="2971800"/>
          <a:ext cx="899136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971800"/>
                    <a:ext cx="8991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209680" y="2743200"/>
          <a:ext cx="46483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483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600200" y="3124080"/>
          <a:ext cx="59436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59436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THIS…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IS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JEOPARDY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TV Game Show Themes - 02 - Jeopardy!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560"/>
                            </p:stCondLst>
                            <p:childTnLst>
                              <p:par>
                                <p:cTn id="29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2479"/>
                            </p:stCondLst>
                            <p:childTnLst>
                              <p:par>
                                <p:cTn id="35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120"/>
                            </p:stCondLst>
                            <p:childTnLst>
                              <p:par>
                                <p:cTn id="4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3120"/>
                            </p:stCondLst>
                            <p:childTnLst>
                              <p:par>
                                <p:cTn id="48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4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120"/>
                            </p:stCondLst>
                            <p:childTnLst>
                              <p:par>
                                <p:cTn id="55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120"/>
                            </p:stCondLst>
                            <p:childTnLst>
                              <p:par>
                                <p:cTn id="8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6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8120"/>
                            </p:stCondLst>
                            <p:childTnLst>
                              <p:par>
                                <p:cTn id="9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92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10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20"/>
                            </p:stCondLst>
                            <p:childTnLst>
                              <p:par>
                                <p:cTn id="118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3720"/>
                            </p:stCondLst>
                            <p:childTnLst>
                              <p:par>
                                <p:cTn id="134" nodeType="after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720"/>
                            </p:stCondLst>
                            <p:childTnLst>
                              <p:par>
                                <p:cTn id="15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9320"/>
                            </p:stCondLst>
                            <p:childTnLst>
                              <p:par>
                                <p:cTn id="17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2920"/>
                            </p:stCondLst>
                            <p:childTnLst>
                              <p:par>
                                <p:cTn id="194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6520"/>
                            </p:stCondLst>
                            <p:childTnLst>
                              <p:par>
                                <p:cTn id="213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8320"/>
                            </p:stCondLst>
                            <p:childTnLst>
                              <p:par>
                                <p:cTn id="232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920"/>
                            </p:stCondLst>
                            <p:childTnLst>
                              <p:par>
                                <p:cTn id="25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9120"/>
                            </p:stCondLst>
                            <p:childTnLst>
                              <p:par>
                                <p:cTn id="27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120"/>
                            </p:stCondLst>
                            <p:childTnLst>
                              <p:par>
                                <p:cTn id="2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5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212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4120"/>
                            </p:stCondLst>
                            <p:childTnLst>
                              <p:par>
                                <p:cTn id="31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9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3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4120"/>
                            </p:stCondLst>
                            <p:childTnLst>
                              <p:par>
                                <p:cTn id="32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120"/>
                            </p:stCondLst>
                            <p:childTnLst>
                              <p:par>
                                <p:cTn id="332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4120"/>
                            </p:stCondLst>
                            <p:childTnLst>
                              <p:par>
                                <p:cTn id="3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2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612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7120"/>
                            </p:stCondLst>
                            <p:childTnLst>
                              <p:par>
                                <p:cTn id="37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8120"/>
                            </p:stCondLst>
                            <p:childTnLst>
                              <p:par>
                                <p:cTn id="38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6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0120"/>
                            </p:stCondLst>
                            <p:childTnLst>
                              <p:par>
                                <p:cTn id="38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4120"/>
                            </p:stCondLst>
                            <p:childTnLst>
                              <p:par>
                                <p:cTn id="395" nodeType="after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400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6120"/>
                            </p:stCondLst>
                            <p:childTnLst>
                              <p:par>
                                <p:cTn id="402" nodeType="after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5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812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172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32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8120"/>
                            </p:stCondLst>
                            <p:childTnLst>
                              <p:par>
                                <p:cTn id="46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1720"/>
                            </p:stCondLst>
                            <p:childTnLst>
                              <p:par>
                                <p:cTn id="48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3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5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7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3472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0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2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4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9720"/>
                            </p:stCondLst>
                            <p:childTnLst>
                              <p:par>
                                <p:cTn id="4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7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9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01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2720"/>
                            </p:stCondLst>
                            <p:childTnLst>
                              <p:par>
                                <p:cTn id="503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4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6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8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5720"/>
                            </p:stCondLst>
                            <p:childTnLst>
                              <p:par>
                                <p:cTn id="510" nodeType="after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1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3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5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8720"/>
                            </p:stCondLst>
                            <p:childTnLst>
                              <p:par>
                                <p:cTn id="517" nodeType="after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1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0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2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720"/>
                            </p:stCondLst>
                            <p:childTnLst>
                              <p:par>
                                <p:cTn id="524" nodeType="after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5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7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9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2720"/>
                            </p:stCondLst>
                            <p:childTnLst>
                              <p:par>
                                <p:cTn id="531" nodeType="after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4720"/>
                            </p:stCondLst>
                            <p:childTnLst>
                              <p:par>
                                <p:cTn id="538" nodeType="after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3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1994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914400" y="2819520"/>
          <a:ext cx="71629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71629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447920" y="3124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0" y="251460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92440" y="1751760"/>
            <a:ext cx="19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80880" y="2666880"/>
          <a:ext cx="815364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15364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240" y="2463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743040" y="2819520"/>
          <a:ext cx="741024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819520"/>
                    <a:ext cx="74102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25909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2057400" y="1600200"/>
            <a:ext cx="54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-2033640" y="2133720"/>
            <a:ext cx="13497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14480" y="21175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function family has graphs that are (straight) li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762120" y="27432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near f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62120" y="2362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adratic functions have graphs that are this shape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914400" y="2971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510080" y="838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3524040" y="274320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447920" y="198108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ongs in this function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057400" y="2819520"/>
          <a:ext cx="4724280" cy="94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590920" y="2971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1219320" y="1523880"/>
            <a:ext cx="6781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DEO C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 two function families that make the shape shown by Ms. Williams’ a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1371600" y="1890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This is the name of a polynomial with 1 te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990720" y="2895480"/>
            <a:ext cx="75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bic and Quin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80880" y="2438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hape of this function family is made because it is impossible to divide by 0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1800" y="207540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800" y="38469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1800" y="56185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2"/>
          <p:cNvSpPr/>
          <p:nvPr/>
        </p:nvSpPr>
        <p:spPr>
          <a:xfrm>
            <a:off x="1800" y="73904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1800" y="207540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1800" y="38469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1800" y="56185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1800" y="73904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5867280" y="2666880"/>
            <a:ext cx="7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"/>
          <p:cNvSpPr/>
          <p:nvPr/>
        </p:nvSpPr>
        <p:spPr>
          <a:xfrm>
            <a:off x="3505320" y="2881440"/>
            <a:ext cx="2895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914400" y="1981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2440" y="230040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two tests used to determine whether something is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4635360" y="2514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838080" y="16765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9600" y="2941560"/>
            <a:ext cx="803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9120" y="2452680"/>
            <a:ext cx="52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pping Dia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rtical Line T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1676520" y="213372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see this in the vertical line test, you know the relation is NOT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3"/>
          <p:cNvSpPr/>
          <p:nvPr/>
        </p:nvSpPr>
        <p:spPr>
          <a:xfrm>
            <a:off x="1447920" y="2057400"/>
            <a:ext cx="673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 vertical line hits 2 or more points on the grap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380880" y="1523880"/>
            <a:ext cx="84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ive the domain and range of the re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0120" y="3200400"/>
          <a:ext cx="85852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200400"/>
                    <a:ext cx="85852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549440" y="2120760"/>
          <a:ext cx="597060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2120760"/>
                    <a:ext cx="59706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523880" y="18288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what you look for in a mapping diagram to determine whether or not something is a functio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054960" y="2895480"/>
            <a:ext cx="32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727920" y="1295280"/>
            <a:ext cx="798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Arrows coming from the doma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arrows from one numb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arrow from each numb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830880" y="2590920"/>
            <a:ext cx="755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ve the definition of a fun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95280" y="2057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relation where each element in the domain is paired with exactly one element in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295280" y="15238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1271520" y="2438280"/>
            <a:ext cx="69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’re told to find f(5), what do you do with the number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609480" y="2514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all the x’s in the function with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533520" y="24382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-685800" y="2057400"/>
            <a:ext cx="1020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v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d f(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625760" y="2743200"/>
          <a:ext cx="56131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743200"/>
                    <a:ext cx="56131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769920" y="3138840"/>
            <a:ext cx="10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914400" y="1295280"/>
            <a:ext cx="748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Gi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ind f(2c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600200" y="2666880"/>
          <a:ext cx="59436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9436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676520" y="2590920"/>
          <a:ext cx="5790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5790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1371600" y="175248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f(g(x)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2895480" y="2666880"/>
          <a:ext cx="388620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8862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8467560" y="5807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905120" y="3124080"/>
            <a:ext cx="54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295280" y="160020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Based on its number of terms, the polynomial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i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00400" y="3048120"/>
          <a:ext cx="328932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3289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828800" y="2743200"/>
          <a:ext cx="54864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1295280" y="9907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06560" y="266760"/>
            <a:ext cx="328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i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d f(g(6)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2209680" y="2057400"/>
          <a:ext cx="51055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1055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09480" y="289548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47920" y="2745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I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4265640" y="348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7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4176720" y="332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676520" y="1676520"/>
            <a:ext cx="608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The degree of the polynom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is this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743200" y="3166920"/>
          <a:ext cx="40384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66920"/>
                    <a:ext cx="40384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246560" y="28954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77720" y="2362320"/>
            <a:ext cx="71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2286000" y="24084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914400" y="30160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Times New Roman"/>
              </a:rPr>
              <a:t>is NOT a polynomial because of this rea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583080" y="990720"/>
          <a:ext cx="16747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990720"/>
                    <a:ext cx="16747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auren Williams</cp:lastModifiedBy>
  <dcterms:modified xsi:type="dcterms:W3CDTF">2010-09-27T23:10:54Z</dcterms:modified>
  <cp:revision>227</cp:revision>
  <dc:subject/>
  <dc:title>Blank Jeopardy</dc:title>
</cp:coreProperties>
</file>